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84A-2248-4A01-AE92-F68C1C94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32B-AB00-48AB-99F7-4B3872D2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6A5-7416-4B53-A5D6-BA59D420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A91-B011-4ACF-BADE-E6DEFC4E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40D-5BE4-4583-9B8C-40BF100F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A79-7E08-4597-BA76-DAFF4723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322-8022-4CD3-99C9-B88E65AC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1F5-A932-441A-939F-FDE0CBA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148-EDC0-4EAC-8AAE-71A0BEF8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193-6F69-4023-A7EC-7579ADEA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B13-918B-47B8-BFD9-5242C464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558-99C3-4077-8EA3-54A40250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ED61-2BD4-4A4A-8FEE-445FA6B93A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 Boy’s 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533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5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he call from p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t is called from the police and Shafi felt a lump rising in his throat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0292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Arial"/>
              </a:rPr>
              <a:t>The police is telling him that his car is crash and it become a fatal accident. He told Shafi the woman in passenger seat is in intensive care, she refuse to tell them her name, she just want to see you.</a:t>
            </a: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hat’s left ?</a:t>
            </a:r>
            <a:br>
              <a:rPr sz="40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MG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What’s the end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It’s your time now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e prepare a song for you, thinking and enjoy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01932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15200" y="57913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156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099320"/>
            <a:ext cx="8610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The boy’s name is shafi. He want to buy a car since he was 17 year-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After several years saving money, he has enough money to buy a c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So, Shafi go to the car shop to buy a car but the price is too light for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So, he is bargaining with the sale man. At final, he bought that red ca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To show his new car</a:t>
            </a:r>
            <a:r>
              <a:rPr b="1" i="1" lang="zh-CN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cc33"/>
                </a:solidFill>
                <a:latin typeface="Arial"/>
              </a:rPr>
              <a:t>His girlfriend’s name is Gemma .Then, he go to his girlfriend's home to pick her up. And he is very happy that he can show his lovely car.</a:t>
            </a: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343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ght cl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Then Gemma suggest to go to the night bar with his new car. shafi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5181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Another handsome guy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cc33"/>
                </a:solidFill>
                <a:latin typeface="Arial"/>
              </a:rPr>
              <a:t>At the bar,  they cross by to see Gemma’s former boy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52280"/>
            <a:ext cx="373356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Of course that is a not happy meeting, but after that, they  dance and dance. But Shafi didn't notice that his girlfriend has stolen something from his porket.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95680" y="152280"/>
            <a:ext cx="44769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ere is the ca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66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When they go back home and start to notice that his car is absent at the car parking.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5867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t the c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Then he notice that his car is lost, he yelling, and the tears were already beginning to well up his eyes.</a:t>
            </a:r>
            <a:br>
              <a:rPr sz="2400"/>
            </a:b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He is looking increasingly desperate.</a:t>
            </a: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25960" y="3938760"/>
            <a:ext cx="4118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After that Gemma ask him to clam down and try to go home by Rooksby’s car.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504960" cy="4876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4876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29T04:38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